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E27E4-478E-4AF5-8B2F-57CC367D6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6118C-A882-4567-AE33-B847B6427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8A6E4-EE8A-45D5-B247-B90A8FDF3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38358-3CE8-44A6-9A59-5AD42C3A0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126CF-D4D1-4997-9CFC-83721A65C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C4536-C88F-43FC-9785-C3904837E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8A254-1328-4E1F-862A-B51C0BE78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CA7CC-79CC-4A70-A491-536EBB614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ABC31-6E8A-422E-AB4F-88C558A5F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9B27B-DCEB-4190-B36A-D7E478F83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2EE86-520B-476E-AEA9-CDDC76C2B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CCFB1-5B3F-4F25-9772-7D0AD7F19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EDFD0-6094-4C5B-9CA2-0D4359C00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7F5AD-E4CC-4F5B-8C9E-6A505BAB5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53B7E-3BDC-49CA-9038-CACB291E4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8E563-CD91-4B78-8C4A-32AEB31BE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5C72E-5448-4D1C-AFAB-B638065EE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55369-28BF-4DE2-B583-0396B2057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60699-77E2-4A07-83C0-6658B40DD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2CA51-23B6-4A52-82D3-A5976DF5E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FD1C3-6B06-471B-A737-0D9D2798D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C768A-F0FD-4669-9A33-54FEC6880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4C90D-388B-4269-9C87-3FEB5A07D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6B999-12A8-423D-B389-AB75F298E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EE2D3-2B66-4FB4-9F61-1860CF304F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D9CDF-3A15-48E1-8D59-F0CA905A22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17017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4-1 </a:t>
            </a:r>
            <a:r>
              <a:rPr b="0" lang="zh-CN" sz="4400" spc="-1" strike="noStrike">
                <a:solidFill>
                  <a:srgbClr val="ff0000"/>
                </a:solidFill>
                <a:latin typeface="굴림"/>
              </a:rPr>
              <a:t>일상의 상식세계 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3715920"/>
            <a:ext cx="603252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우리들의 </a:t>
            </a:r>
            <a:r>
              <a:rPr b="1" lang="zh-CN" sz="2000" spc="-1" strike="noStrike">
                <a:solidFill>
                  <a:srgbClr val="000000"/>
                </a:solidFill>
                <a:latin typeface="굴림"/>
              </a:rPr>
              <a:t>상식세계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가 갖는 특징은 무엇인가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개인의 사회세계는 어떻게 구성되는가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? 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참고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일상생활의 패러다임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, pp. 119-182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-838080" algn="ctr"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</a:rPr>
              <a:t>시각의 상호성과 상식적 지식의 구조적 사회화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6960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입장의 상호 교환 가능성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=&gt;  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상화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적합성 체계의 일치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=&gt;        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상화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러한 상식적인 사유의 구조물이 작동하여 내게 당연시된 세계의 부분이 나의 동료인 너에게도 더 나아가 우리에게도 당연시된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상식적인 지식의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             발생적인 사회화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2060640"/>
            <a:ext cx="7696080" cy="34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나의 개인적인 경험에 기원을 둔 지식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나의 친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부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스승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스승의 스승에 기원을 둔 지식들 </a:t>
            </a:r>
            <a:r>
              <a:rPr b="0" lang="ko-K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비교적 자연적인 세계관의 전형적인 모습을 어떻게 정의하는지 배운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상식적인 사회화에서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일상언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의 역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사회적으로 획득된 기존의 전형들의 창고로서 아직 탐구되지 않은 내용의 열린 지평을 담지한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대충 추정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/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미루어 짐작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/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감으로 판단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10. 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나의 사회세계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나의 사회세계는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네 유형의 타인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과의 관계로 이루어진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전형화된 타인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상대방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동시대인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선대인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후대인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2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11. </a:t>
            </a: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일상적 사회세계의 구조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4360" y="2133360"/>
            <a:ext cx="7696080" cy="28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대면상황에서의 우리관계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시간과 공간을 공유하는 타인들과의 상호작용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너의 지향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(you-orientation)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직접 경험된 사회 세계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4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zh-CN" sz="3600" spc="-1" strike="noStrike">
                <a:solidFill>
                  <a:srgbClr val="000000"/>
                </a:solidFill>
                <a:latin typeface="굴림"/>
              </a:rPr>
              <a:t>전형화의 구조와 ‘그들 관계’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간접 경험된 사회현실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동시대인의 세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높은 익명성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추론적이고 간접적이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그들 지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they-orientation)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199280" cy="13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굴림"/>
              </a:rPr>
              <a:t>3) </a:t>
            </a:r>
            <a:r>
              <a:rPr b="0" lang="zh-CN" sz="3600" spc="-1" strike="noStrike">
                <a:solidFill>
                  <a:srgbClr val="000000"/>
                </a:solidFill>
                <a:latin typeface="굴림"/>
              </a:rPr>
              <a:t>선대인의 세계와 후대인의 세계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역사화된 선대인의 세계에 대한 해석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개인의 해석과 나의 독해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후대인 세계의 비결정성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과도기적 영역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알프레드 슈츠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Alfred Schutz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899-1959)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오스트리아 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뉴욕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현상학적 접근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객관주의라고 하는 잘못된 과학의 경향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상생활세계에 대한 연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인간 중심의 사회 연구에 기여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5580000" y="1773360"/>
            <a:ext cx="1505160" cy="18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상생활세계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8640"/>
            <a:ext cx="7696080" cy="34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온전히 깬 의식을 가진 성인이 자신의 동료들과 함께 그 속에서 그리고 거기에 대해서 어떤 행위를 하는 세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그러면서 </a:t>
            </a:r>
            <a:r>
              <a:rPr b="1" lang="ko-KR" sz="3200" spc="-1" strike="noStrike">
                <a:solidFill>
                  <a:srgbClr val="000000"/>
                </a:solidFill>
                <a:latin typeface="굴림"/>
              </a:rPr>
              <a:t>자연적 태도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갖고서 하나의 현실로 경험하는 세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&gt;(Schutz, 1973: 208)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자연적 태도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의심을 유보하는 혹은 판단 중지하는 인식의 태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새로운 경험에 의해 의심 없이 전제된 준거틀이 부정될 때까지 지속된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참고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자연주의적 태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세계를 오직 자연으로만 파악하는 태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자연적 태도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온전히 깬 정상적인 성인이 갖는 태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삶을 주시하는 태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삶에서의 실천적인 관심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실천적인 과제를 풀고자 하는 관심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근본 근심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죽음에 대한 인식 혹은 두려움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당연시하는 것들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696080" cy="38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변 동료들의 신체적 실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너가 여기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!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너와 나는 유사한 어떤 의식을 갖고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너의 환경과 내 환경 속 외부가 근본적으로 동일한 의미를 갖고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나와 너의 상호작용 속으로 들어갈 수 있고 너와 소통할 수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순수하게 나에 의해서 만들어진 것은 극히 일부분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                      </a:t>
            </a:r>
            <a:r>
              <a:rPr b="0" lang="ko-KR" sz="2800" spc="-1" strike="noStrike">
                <a:solidFill>
                  <a:srgbClr val="ff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과연 그럴까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상 상식의 구성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2276640"/>
            <a:ext cx="7696080" cy="32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모든 지식은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구조물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constructs)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사유조직의 수준에서 일련의 추상화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반화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형식화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상화를 포함한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처음부터 순수하고 단순한 사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(facts)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과 같은 것은 없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처음부터 우리의 정신활동에 의해 어떤 보편적 맥락으로부터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선택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된 것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3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7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전형화와 상식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상식적인 진술방식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저 동물은 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대상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S)  + 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특징적인 속성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P)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이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관심과 적합성에 의한 선택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생활세계에서 공유되는 상식적인 지식은 부분적이고 단편적이며 일관성이 결여된 모순적인 지식으로 나타나기도 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72709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9. </a:t>
            </a: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상식적 지식의 사회적 성격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생활세계는 상호주관적 세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상식적 지식의 사회화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나의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는 그에게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가 아닐 수 있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그러나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우리는 일상생활세계의 상식적인 사유를 할 수 있다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.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왜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4T01:24:40Z</dcterms:created>
  <dc:creator>Staff</dc:creator>
  <dc:description/>
  <dc:language>en-US</dc:language>
  <cp:lastModifiedBy>Staff</cp:lastModifiedBy>
  <dcterms:modified xsi:type="dcterms:W3CDTF">2009-03-23T05:49:02Z</dcterms:modified>
  <cp:revision>9</cp:revision>
  <dc:subject/>
  <dc:title>일상생활의 상식과 과학 </dc:title>
</cp:coreProperties>
</file>